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8207-F27B-46E1-872B-03D8F3BF3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une: 3 blind m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CE66-6636-47E2-AAA4-8D4C1E19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8A3D-F04D-4780-A94B-E2888BA1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4C65-2CB2-44D9-829F-FB39200A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2FB-CC03-470E-A5C1-6AE6C4B1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FECB-4B58-4645-A4FA-0AF9B516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158B-ABDA-4D28-BD6F-F83AF4D7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EE10-724B-47E7-83A5-10CFD81B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E959-C756-4182-B2D5-A1A56EDA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E81-3481-4094-987D-AE414924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6AC3-088A-42AB-BB09-AC09423E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1FE8-FA46-4DE9-8F40-4FD23F97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AF60-3718-4826-BA7D-B16E76DE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B393-8D25-4120-B620-0A64C3FCC02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304920" y="91440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coutez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coutez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ardez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ardez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eyez-vous correctem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eyez-vous correctem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eyez-vous correctem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isez-vous!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1371600" cy="1111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553080" y="1752480"/>
            <a:ext cx="1143000" cy="889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80880" y="4724280"/>
            <a:ext cx="2438640" cy="1946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934320" y="5181480"/>
            <a:ext cx="17524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95680" y="2743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coutez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coutez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6668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480" y="25142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ardez!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ardez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3810240" cy="2963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2880" y="2286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eyez-vous correctement!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eyez-vous correctement!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eyez-vous correctemen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14600" y="3048120"/>
            <a:ext cx="3809880" cy="3041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isez-vou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304920" y="91440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coutez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coutez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ardez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ardez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eyez-vous correctem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eyez-vous correctem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eyez-vous correctem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isez-vous!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1371600" cy="1111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553080" y="1752480"/>
            <a:ext cx="1143000" cy="889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28600" y="4648320"/>
            <a:ext cx="2438280" cy="1946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781680" y="5029200"/>
            <a:ext cx="175284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706400"/>
            <a:ext cx="9144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coutez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Écoutez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ardez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gardez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eyez-vous correctemen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eyez-vous correctemen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sseyez-vous correctemen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aisez-vous!</a:t>
            </a:r>
            <a:r>
              <a:rPr b="0" lang="es-E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o the tune of three blind m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4:50:25Z</dcterms:created>
  <dc:creator>Mr Jefferson</dc:creator>
  <dc:description/>
  <dc:language>en-US</dc:language>
  <cp:lastModifiedBy>ITSU</cp:lastModifiedBy>
  <dcterms:modified xsi:type="dcterms:W3CDTF">2006-10-05T16:44:26Z</dcterms:modified>
  <cp:revision>3</cp:revision>
  <dc:subject/>
  <dc:title>PowerPoint Presentation</dc:title>
</cp:coreProperties>
</file>